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EE2-FD84-4A79-8C23-17C4D4AA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8F2-1CC7-4AF5-B278-1564777C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BB3-4A2C-4C07-B1DA-B1593D09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633-905E-4141-939C-D1AB6D64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1C2A-0FF1-4AA7-B4D3-A4578D30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5DF6-9C6E-441F-9C1A-6805BA8B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32A-52A1-4975-A56B-8D20CF0B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1AEF-86D1-4D08-B6FD-66FDE292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AA6-3E16-4091-8E1D-AAC77DF6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E9F-2035-4557-8900-929277F5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1D0F-C2BD-4002-9EC0-E0E473D0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1C4-A4D8-48C9-9BED-F03A1BA7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C154-F367-4A61-9003-4008753C7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Multiple Forces with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905120" y="1828800"/>
            <a:ext cx="1600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3"/>
          <p:cNvSpPr/>
          <p:nvPr/>
        </p:nvSpPr>
        <p:spPr>
          <a:xfrm>
            <a:off x="609480" y="19810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>
            <a:off x="533520" y="2362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2666880" y="15228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743200" y="762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58128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direction and magnitude of the acceleration of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048120" y="3429000"/>
            <a:ext cx="1600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3"/>
          <p:cNvSpPr/>
          <p:nvPr/>
        </p:nvSpPr>
        <p:spPr>
          <a:xfrm flipV="1">
            <a:off x="4038480" y="327636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 flipH="1" flipV="1">
            <a:off x="2285640" y="2590920"/>
            <a:ext cx="16765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3962520" y="4038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50532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7242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97180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2860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direction and magnitude of the acceleration of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ant_walking_to_job_site_md_clr"/>
          <p:cNvPicPr/>
          <p:nvPr/>
        </p:nvPicPr>
        <p:blipFill>
          <a:blip r:embed="rId1"/>
          <a:stretch/>
        </p:blipFill>
        <p:spPr>
          <a:xfrm>
            <a:off x="236232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Jimmy_running_md_wht"/>
          <p:cNvPicPr/>
          <p:nvPr/>
        </p:nvPicPr>
        <p:blipFill>
          <a:blip r:embed="rId2"/>
          <a:stretch/>
        </p:blipFill>
        <p:spPr>
          <a:xfrm>
            <a:off x="6515280" y="4229280"/>
            <a:ext cx="2628720" cy="2628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palas_atenea_sculpture_blink_md_wht"/>
          <p:cNvPicPr/>
          <p:nvPr/>
        </p:nvPicPr>
        <p:blipFill>
          <a:blip r:embed="rId3"/>
          <a:stretch/>
        </p:blipFill>
        <p:spPr>
          <a:xfrm>
            <a:off x="4419720" y="228600"/>
            <a:ext cx="1725480" cy="2695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penguin_dance_md_wht"/>
          <p:cNvPicPr/>
          <p:nvPr/>
        </p:nvPicPr>
        <p:blipFill>
          <a:blip r:embed="rId4"/>
          <a:stretch/>
        </p:blipFill>
        <p:spPr>
          <a:xfrm>
            <a:off x="3124080" y="4648320"/>
            <a:ext cx="1051200" cy="17524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0" y="152280"/>
            <a:ext cx="4495680" cy="40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hree cartoon creatures are trying to pull a statue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aphically find the resultant vector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t applies 100N@2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nguin 200N@2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ie Chan 300N@30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vector is whic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it move, and which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it go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H="1">
            <a:off x="3200040" y="2819520"/>
            <a:ext cx="198108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H="1">
            <a:off x="3809880" y="2819520"/>
            <a:ext cx="1371600" cy="24382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5181480" y="2819520"/>
            <a:ext cx="2438640" cy="26668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7924680" y="380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7238880" y="990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8686800" y="762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7772400" y="152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6629400" y="762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7696080" y="160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5334120" y="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 flipH="1">
            <a:off x="4724280" y="457200"/>
            <a:ext cx="91440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 flipH="1">
            <a:off x="4571640" y="457200"/>
            <a:ext cx="1066680" cy="17524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5638680" y="457200"/>
            <a:ext cx="1981440" cy="23623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04920" y="0"/>
            <a:ext cx="33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graphical vector addition to work, the arrows must be drawn at exactly the right angle using a protractor and must be drawn to scale (proportionally) using a ruler.  Check this drawing with a ruler and protr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04920" y="2743200"/>
            <a:ext cx="3200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1813"/>
                </a:solidFill>
                <a:latin typeface="Arial"/>
              </a:rPr>
              <a:t>The Ant applies 100N@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e Penguin 200N@2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Jackie Chan 300N@3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5334120" y="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 flipH="1">
            <a:off x="5638680" y="4572000"/>
            <a:ext cx="91440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H="1">
            <a:off x="4571640" y="457200"/>
            <a:ext cx="1066680" cy="17524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4572000" y="2209680"/>
            <a:ext cx="1981080" cy="23623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5638680" y="45720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8862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200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0384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300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6324480" y="4952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0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019920" y="20574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=240N@2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0" y="533520"/>
            <a:ext cx="32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ing the vector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tip to tail”, regardless of the order, gives us the result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457200" y="4495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we graphically  find how big this resultant 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500"/>
                            </p:stCondLst>
                            <p:childTnLst>
                              <p:par>
                                <p:cTn id="4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1:36:40Z</dcterms:created>
  <dc:creator>SOCSD</dc:creator>
  <dc:description/>
  <dc:language>en-US</dc:language>
  <cp:lastModifiedBy>SOCSD User</cp:lastModifiedBy>
  <dcterms:modified xsi:type="dcterms:W3CDTF">2012-10-25T14:31:34Z</dcterms:modified>
  <cp:revision>3</cp:revision>
  <dc:subject/>
  <dc:title>Adding Multiple Forces that are not at right angles</dc:title>
</cp:coreProperties>
</file>